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28B-792C-4439-B336-24C2DF16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C16-3B8A-42A9-AF37-F4341C61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FBA-B479-43A5-A870-7F63F62C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9A5-0678-4931-88FE-85D02F26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EEC-7320-4E22-AEAC-BE3819A8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993-14A0-4800-B970-B569CB8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706-C89F-43ED-AC79-8286F639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DD6-2A69-4CBB-9285-6E2908F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92C-D7F5-4EF8-9543-2FE6514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CDE-6DF9-40A4-823B-4F6A75A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A87-36ED-4F20-BF15-A63B69D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01B-4F1F-45C7-A77B-5350B42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E82-41FA-4819-91D5-8F041DC4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5105520" cy="432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8160" y="68580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Impulsausbreitung in einer rotierend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514600"/>
          <a:ext cx="7391520" cy="2814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73915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95720" y="76212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ifikanz von Diagnoseergeb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22560" y="3294000"/>
            <a:ext cx="4848120" cy="312732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282680"/>
            <a:ext cx="685980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71360" y="5967360"/>
            <a:ext cx="124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dung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11320" y="5262480"/>
            <a:ext cx="48484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4952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2592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603760" y="5262480"/>
            <a:ext cx="180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681960" y="5262480"/>
            <a:ext cx="144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59800" y="5262480"/>
            <a:ext cx="1440" cy="44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178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338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6408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815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957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3117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419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9579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7356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8812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197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0357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514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46596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976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11360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327800" y="5235120"/>
            <a:ext cx="180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43800" y="5235120"/>
            <a:ext cx="1440" cy="27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288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108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5892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36760" y="5576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11320" y="2135160"/>
            <a:ext cx="48484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485720" y="470016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11320" y="2134800"/>
            <a:ext cx="1800" cy="312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62360" y="526248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62360" y="4637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62360" y="401148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2360" y="3386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2360" y="27608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2360" y="213516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8160" y="5270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2920" y="5214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8160" y="4645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2920" y="4589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78160" y="4019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2920" y="3963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8160" y="3394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2920" y="3338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78160" y="2768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2920" y="271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8160" y="2143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2920" y="2089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759800" y="2134800"/>
            <a:ext cx="1440" cy="312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449520" y="3184560"/>
            <a:ext cx="1400400" cy="2077920"/>
          </a:xfrm>
          <a:custGeom>
            <a:avLst/>
            <a:gdLst/>
            <a:ahLst/>
            <a:rect l="l" t="t" r="r" b="b"/>
            <a:pathLst>
              <a:path w="1445" h="2326">
                <a:moveTo>
                  <a:pt x="0" y="2326"/>
                </a:moveTo>
                <a:lnTo>
                  <a:pt x="445" y="2033"/>
                </a:lnTo>
                <a:lnTo>
                  <a:pt x="889" y="1734"/>
                </a:lnTo>
                <a:lnTo>
                  <a:pt x="1445" y="0"/>
                </a:lnTo>
              </a:path>
            </a:pathLst>
          </a:custGeom>
          <a:noFill/>
          <a:ln w="22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95520" y="3135240"/>
            <a:ext cx="108000" cy="986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7520" y="3397320"/>
            <a:ext cx="108000" cy="968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57720" y="3664080"/>
            <a:ext cx="108000" cy="9828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7360" y="5211720"/>
            <a:ext cx="106560" cy="9864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125880" y="2907360"/>
            <a:ext cx="2909880" cy="2354040"/>
          </a:xfrm>
          <a:custGeom>
            <a:avLst/>
            <a:gdLst/>
            <a:ahLst/>
            <a:rect l="l" t="t" r="r" b="b"/>
            <a:pathLst>
              <a:path w="3000" h="2635">
                <a:moveTo>
                  <a:pt x="0" y="2635"/>
                </a:moveTo>
                <a:lnTo>
                  <a:pt x="778" y="2271"/>
                </a:lnTo>
                <a:lnTo>
                  <a:pt x="1611" y="1679"/>
                </a:lnTo>
                <a:lnTo>
                  <a:pt x="2333" y="911"/>
                </a:lnTo>
                <a:lnTo>
                  <a:pt x="3000" y="0"/>
                </a:lnTo>
              </a:path>
            </a:pathLst>
          </a:custGeom>
          <a:noFill/>
          <a:ln w="22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6560" y="2862360"/>
            <a:ext cx="1000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0760" y="318600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8600" y="371484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8800" y="4402080"/>
            <a:ext cx="10152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8500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1320" y="2964600"/>
            <a:ext cx="1830600" cy="2297160"/>
          </a:xfrm>
          <a:custGeom>
            <a:avLst/>
            <a:gdLst/>
            <a:ahLst/>
            <a:rect l="l" t="t" r="r" b="b"/>
            <a:pathLst>
              <a:path w="1888" h="2571">
                <a:moveTo>
                  <a:pt x="0" y="2571"/>
                </a:moveTo>
                <a:lnTo>
                  <a:pt x="611" y="2481"/>
                </a:lnTo>
                <a:lnTo>
                  <a:pt x="1222" y="1611"/>
                </a:lnTo>
                <a:lnTo>
                  <a:pt x="1888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0560" y="2919240"/>
            <a:ext cx="10188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2760" y="299880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46400" y="3776760"/>
            <a:ext cx="1000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9116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438360" y="2716560"/>
            <a:ext cx="3135600" cy="2544840"/>
          </a:xfrm>
          <a:custGeom>
            <a:avLst/>
            <a:gdLst/>
            <a:ahLst/>
            <a:rect l="l" t="t" r="r" b="b"/>
            <a:pathLst>
              <a:path w="3233" h="2848">
                <a:moveTo>
                  <a:pt x="0" y="2848"/>
                </a:moveTo>
                <a:lnTo>
                  <a:pt x="1100" y="2340"/>
                </a:lnTo>
                <a:lnTo>
                  <a:pt x="2178" y="1781"/>
                </a:lnTo>
                <a:lnTo>
                  <a:pt x="3233" y="0"/>
                </a:ln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87600" y="2671920"/>
            <a:ext cx="101880" cy="918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54640" y="3125880"/>
            <a:ext cx="101520" cy="921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00800" y="3624120"/>
            <a:ext cx="101520" cy="9396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3200" y="5214960"/>
            <a:ext cx="10152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233880" y="3046320"/>
            <a:ext cx="2047680" cy="2216160"/>
          </a:xfrm>
          <a:custGeom>
            <a:avLst/>
            <a:gdLst/>
            <a:ahLst/>
            <a:rect l="l" t="t" r="r" b="b"/>
            <a:pathLst>
              <a:path w="2111" h="2481">
                <a:moveTo>
                  <a:pt x="0" y="2481"/>
                </a:moveTo>
                <a:lnTo>
                  <a:pt x="500" y="1919"/>
                </a:lnTo>
                <a:lnTo>
                  <a:pt x="889" y="1822"/>
                </a:lnTo>
                <a:lnTo>
                  <a:pt x="1333" y="911"/>
                </a:lnTo>
                <a:lnTo>
                  <a:pt x="211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911320" y="3062160"/>
            <a:ext cx="1292400" cy="2200320"/>
          </a:xfrm>
          <a:custGeom>
            <a:avLst/>
            <a:gdLst/>
            <a:ahLst/>
            <a:rect l="l" t="t" r="r" b="b"/>
            <a:pathLst>
              <a:path w="1333" h="2463">
                <a:moveTo>
                  <a:pt x="0" y="2463"/>
                </a:moveTo>
                <a:lnTo>
                  <a:pt x="500" y="2354"/>
                </a:lnTo>
                <a:lnTo>
                  <a:pt x="1000" y="700"/>
                </a:lnTo>
                <a:lnTo>
                  <a:pt x="133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25880" y="3070080"/>
            <a:ext cx="1185840" cy="2192400"/>
          </a:xfrm>
          <a:custGeom>
            <a:avLst/>
            <a:gdLst/>
            <a:ahLst/>
            <a:rect l="l" t="t" r="r" b="b"/>
            <a:pathLst>
              <a:path w="1222" h="2454">
                <a:moveTo>
                  <a:pt x="0" y="2454"/>
                </a:moveTo>
                <a:lnTo>
                  <a:pt x="444" y="1781"/>
                </a:lnTo>
                <a:lnTo>
                  <a:pt x="889" y="911"/>
                </a:lnTo>
                <a:lnTo>
                  <a:pt x="12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17880" y="2980440"/>
            <a:ext cx="1832040" cy="2281320"/>
          </a:xfrm>
          <a:custGeom>
            <a:avLst/>
            <a:gdLst/>
            <a:ahLst/>
            <a:rect l="l" t="t" r="r" b="b"/>
            <a:pathLst>
              <a:path w="1889" h="2554">
                <a:moveTo>
                  <a:pt x="0" y="2554"/>
                </a:moveTo>
                <a:lnTo>
                  <a:pt x="444" y="2279"/>
                </a:lnTo>
                <a:lnTo>
                  <a:pt x="944" y="2168"/>
                </a:lnTo>
                <a:lnTo>
                  <a:pt x="1222" y="1858"/>
                </a:lnTo>
                <a:lnTo>
                  <a:pt x="1555" y="700"/>
                </a:lnTo>
                <a:lnTo>
                  <a:pt x="188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7160" y="301140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81360" y="351468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59360" y="36003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9560" y="4414680"/>
            <a:ext cx="74520" cy="66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43400" y="522756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73520" y="302904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9160" y="312588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460224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5560" y="52275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9160" y="3036960"/>
            <a:ext cx="7488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19360" y="3637080"/>
            <a:ext cx="7488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1360" y="4414680"/>
            <a:ext cx="74520" cy="6696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3560" y="522756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1160" y="294624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11360" y="319248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97360" y="3292560"/>
            <a:ext cx="74520" cy="666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5560" y="356868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89560" y="4602240"/>
            <a:ext cx="74520" cy="68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3200" y="5227560"/>
            <a:ext cx="7488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82160" y="298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26240" y="3156120"/>
            <a:ext cx="484200" cy="14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8120" y="3108240"/>
            <a:ext cx="100080" cy="93600"/>
          </a:xfrm>
          <a:prstGeom prst="ellipse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81800" y="322740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3395520"/>
            <a:ext cx="484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31080" y="3360600"/>
            <a:ext cx="74520" cy="6840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51360" y="2395440"/>
            <a:ext cx="158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üchtigung 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08080" y="2635200"/>
            <a:ext cx="19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immschutz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0160" y="2343240"/>
            <a:ext cx="2125800" cy="11919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83000" y="533520"/>
            <a:ext cx="65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 negativer Entladungen vor und n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tüchtigung des Glimmschutz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7760" y="533520"/>
            <a:ext cx="72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Pattern einer betriebsgealtert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-line / off-line bei unterschiedlichen Tempera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74920" y="1676520"/>
            <a:ext cx="3430800" cy="4495680"/>
            <a:chOff x="3274920" y="1676520"/>
            <a:chExt cx="3430800" cy="4495680"/>
          </a:xfrm>
        </p:grpSpPr>
        <p:pic>
          <p:nvPicPr>
            <p:cNvPr id="250" name="L-sensor-erde-rot-hot-phase" descr=""/>
            <p:cNvPicPr/>
            <p:nvPr/>
          </p:nvPicPr>
          <p:blipFill>
            <a:blip r:embed="rId2"/>
            <a:stretch/>
          </p:blipFill>
          <p:spPr>
            <a:xfrm>
              <a:off x="3276720" y="4775040"/>
              <a:ext cx="342900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L-sensor-erde-rot-cold-phase" descr=""/>
            <p:cNvPicPr/>
            <p:nvPr/>
          </p:nvPicPr>
          <p:blipFill>
            <a:blip r:embed="rId3"/>
            <a:stretch/>
          </p:blipFill>
          <p:spPr>
            <a:xfrm>
              <a:off x="3274920" y="3225960"/>
              <a:ext cx="343080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L-sensor-erde-off-warm" descr=""/>
            <p:cNvPicPr/>
            <p:nvPr/>
          </p:nvPicPr>
          <p:blipFill>
            <a:blip r:embed="rId4"/>
            <a:stretch/>
          </p:blipFill>
          <p:spPr>
            <a:xfrm>
              <a:off x="3289320" y="1676520"/>
              <a:ext cx="3416400" cy="14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3662640" y="2666880"/>
            <a:ext cx="1291680" cy="3355200"/>
            <a:chOff x="3662640" y="2666880"/>
            <a:chExt cx="1291680" cy="3355200"/>
          </a:xfrm>
        </p:grpSpPr>
        <p:sp>
          <p:nvSpPr>
            <p:cNvPr id="254" name=""/>
            <p:cNvSpPr/>
            <p:nvPr/>
          </p:nvSpPr>
          <p:spPr>
            <a:xfrm>
              <a:off x="3662640" y="2666880"/>
              <a:ext cx="113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ff-line, k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63360" y="4191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n-line, ka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4080" y="5715000"/>
              <a:ext cx="129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n-line, w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4280" y="533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von TE-Kenngrößen einer on-line Me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alter und betriebswarmer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124080" y="1752480"/>
            <a:ext cx="3657240" cy="4419360"/>
            <a:chOff x="3124080" y="1752480"/>
            <a:chExt cx="3657240" cy="4419360"/>
          </a:xfrm>
        </p:grpSpPr>
        <p:pic>
          <p:nvPicPr>
            <p:cNvPr id="264" name="C-Kop-rot-cold" descr=""/>
            <p:cNvPicPr/>
            <p:nvPr/>
          </p:nvPicPr>
          <p:blipFill>
            <a:blip r:embed="rId2"/>
            <a:stretch/>
          </p:blipFill>
          <p:spPr>
            <a:xfrm>
              <a:off x="3124080" y="1752480"/>
              <a:ext cx="3657240" cy="206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C-Kop-rot-hot" descr=""/>
            <p:cNvPicPr/>
            <p:nvPr/>
          </p:nvPicPr>
          <p:blipFill>
            <a:blip r:embed="rId3"/>
            <a:stretch/>
          </p:blipFill>
          <p:spPr>
            <a:xfrm>
              <a:off x="3147840" y="4110120"/>
              <a:ext cx="3633120" cy="206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>
            <a:off x="3583440" y="182880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3080" y="251460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x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520" y="318456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l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3440" y="42670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äuf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3080" y="4952880"/>
            <a:ext cx="125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x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4520" y="56228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l. Scheinla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240" y="480060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r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240" y="24382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l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6360" y="53352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Messung mit unterschiedlichen Sensoren an 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triebsgealterten Hochspannungs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11520" y="1690560"/>
            <a:ext cx="382572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95680" y="3236760"/>
            <a:ext cx="3835440" cy="148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695680" y="4751280"/>
            <a:ext cx="382572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16240" y="2149560"/>
            <a:ext cx="27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duktive Kopplung an der Erd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6240" y="3763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duktive Kopplung an Schirmerd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6240" y="5319720"/>
            <a:ext cx="269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Kapazitive Kopplung an den Klem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28800" y="1752480"/>
            <a:ext cx="6552720" cy="4343400"/>
            <a:chOff x="1828800" y="1752480"/>
            <a:chExt cx="6552720" cy="4343400"/>
          </a:xfrm>
        </p:grpSpPr>
        <p:graphicFrame>
          <p:nvGraphicFramePr>
            <p:cNvPr id="66" name=""/>
            <p:cNvGraphicFramePr/>
            <p:nvPr/>
          </p:nvGraphicFramePr>
          <p:xfrm>
            <a:off x="1828800" y="1752480"/>
            <a:ext cx="6552720" cy="434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1752480"/>
                      <a:ext cx="655272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3085920" y="2398680"/>
              <a:ext cx="9500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07880" y="4269960"/>
              <a:ext cx="9500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10800" y="3646800"/>
              <a:ext cx="23749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r>
                <a:rPr b="0" lang="de-DE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85120" y="75708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 und ta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i beschleunigter elektr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52480" y="1828800"/>
          <a:ext cx="6248520" cy="423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62485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40080" y="685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 und ta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rm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3880" y="1752480"/>
            <a:ext cx="7010280" cy="4267440"/>
            <a:chOff x="1523880" y="1752480"/>
            <a:chExt cx="7010280" cy="4267440"/>
          </a:xfrm>
        </p:grpSpPr>
        <p:graphicFrame>
          <p:nvGraphicFramePr>
            <p:cNvPr id="86" name=""/>
            <p:cNvGraphicFramePr/>
            <p:nvPr/>
          </p:nvGraphicFramePr>
          <p:xfrm>
            <a:off x="1523880" y="1752480"/>
            <a:ext cx="7010280" cy="426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1752480"/>
                      <a:ext cx="7010280" cy="426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676040" y="2034000"/>
              <a:ext cx="3528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Alterungszyklu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29760" y="3364200"/>
              <a:ext cx="517428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1          4       10    14      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135880" y="6858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Intensität rein thermischer Alt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5790960" cy="430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12680" y="76212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e Entladungspattern von Modellspu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57400" y="1828800"/>
          <a:ext cx="5562720" cy="438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828800"/>
                    <a:ext cx="5562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758960" y="533520"/>
            <a:ext cx="60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von TE-Kennwe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ssen an betriebsgealtert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19320" y="2438280"/>
          <a:ext cx="7315200" cy="29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438280"/>
                    <a:ext cx="73152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989000" y="6858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spruchung der Wicklungsbere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1676520"/>
          <a:ext cx="39690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676520"/>
                    <a:ext cx="3969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63320" y="685800"/>
            <a:ext cx="87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ustfaktor- und TE-Kennwerte betriebsgealterter Wick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08:16Z</cp:lastPrinted>
  <dcterms:modified xsi:type="dcterms:W3CDTF">2000-06-22T07:59:04Z</dcterms:modified>
  <cp:revision>86</cp:revision>
  <dc:subject/>
  <dc:title>Kein Folientitel</dc:title>
</cp:coreProperties>
</file>