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7588" cy="6858000"/>
  <p:notesSz cx="6681788" cy="9817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022F-81FA-4DEE-A9E2-1DED76E2B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ECF1-D7F1-433D-A809-2E460DFD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52A3-AFC5-4B2E-A332-D10DF2E3F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1730-6ABC-4A6B-B3CA-ECECA4643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8260-7B9A-49C3-B781-E5262411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5D26-C64E-46C2-ACFC-FFD7F5EC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7F83-C81D-42E8-8E5D-BBA99653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7EF2-FBA0-4509-8883-14C090CA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2996-F55B-47DA-9DCA-B3E77B0B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1E75-7A77-4DDB-809B-047A073E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06A6-9ED5-4AC4-8C6D-4A1B5578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276A-E97C-4419-84B2-AD141347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BBE8-84F3-4853-9722-41ADB89B3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523880" y="1905120"/>
            <a:ext cx="6858000" cy="4103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762200" y="533520"/>
            <a:ext cx="642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ordnung der einzelnen Phasenbereiche be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TE-Messung an rotierenden Masch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828800" y="1676520"/>
          <a:ext cx="6745320" cy="4198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1676520"/>
                    <a:ext cx="6745320" cy="41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1454400" y="762120"/>
            <a:ext cx="712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-Kenngrößen für verschiedene Betriebszustä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FARBVERL" descr=""/>
          <p:cNvPicPr/>
          <p:nvPr/>
        </p:nvPicPr>
        <p:blipFill>
          <a:blip r:embed="rId4"/>
          <a:stretch/>
        </p:blipFill>
        <p:spPr>
          <a:xfrm>
            <a:off x="3581280" y="4343400"/>
            <a:ext cx="2438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143000" y="2209680"/>
          <a:ext cx="7696080" cy="3048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2209680"/>
                    <a:ext cx="769608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2444040" y="609480"/>
            <a:ext cx="48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r- und Nachteile diagnostisc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n-line und off-line TE-Mess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209680" y="1792440"/>
          <a:ext cx="5486400" cy="426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1792440"/>
                    <a:ext cx="5486400" cy="42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607400" y="762120"/>
            <a:ext cx="681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fluß der Koppel- und Statorwicklungskapazit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2T09:29:16Z</dcterms:created>
  <dc:creator>Strehl</dc:creator>
  <dc:description/>
  <dc:language>en-US</dc:language>
  <cp:lastModifiedBy>ldic</cp:lastModifiedBy>
  <cp:lastPrinted>2000-06-21T06:20:14Z</cp:lastPrinted>
  <dcterms:modified xsi:type="dcterms:W3CDTF">2000-06-22T08:01:12Z</dcterms:modified>
  <cp:revision>71</cp:revision>
  <dc:subject/>
  <dc:title>Kein Folientitel</dc:title>
</cp:coreProperties>
</file>