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681788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F1E-82BF-450C-91BA-0FB2FF0E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4FA-B3A8-45AC-90EB-DC4D1335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333-FA0F-490B-9AEE-4EF0D2D1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8B8-4BCF-4DC5-B192-9ECB3DFE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2EA-F583-4C4F-A748-89D49747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E89-5554-4E50-B37F-C7A29C19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B67-4508-4E1D-8108-56161162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332-F8ED-4708-B9A3-457EB957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B7C-F50A-4723-A737-456A31D0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C1D-A5FD-4927-A176-E84B269A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666-F7F6-4CAF-AFF2-4B8CCF1B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6C8-E996-4BCA-9464-9383FDAC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353F-7315-4166-B1E8-7528414F2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56840" y="76212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D Monitoring on Rotating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43000" y="1752480"/>
          <a:ext cx="754380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752480"/>
                    <a:ext cx="754380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9:29:16Z</dcterms:created>
  <dc:creator>Strehl</dc:creator>
  <dc:description/>
  <dc:language>en-US</dc:language>
  <cp:lastModifiedBy>ldic</cp:lastModifiedBy>
  <cp:lastPrinted>2000-11-09T07:30:04Z</cp:lastPrinted>
  <dcterms:modified xsi:type="dcterms:W3CDTF">2000-11-09T07:34:32Z</dcterms:modified>
  <cp:revision>72</cp:revision>
  <dc:subject/>
  <dc:title>Kein Folientitel</dc:title>
</cp:coreProperties>
</file>