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FD1-1C4D-4B9A-9737-F9AD7FFF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8E7-8AAD-41D3-B2C5-C1CD14E7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429-30D1-4FE2-B50D-9CC2CA5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2F9-D7FF-4FCC-A10F-94B508E3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FC3-F7A0-49D7-B675-20DF5DB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5A2-A45C-4087-A3ED-E82D8317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D1D-5E34-4669-84C2-4BBB61C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BF4-4F0F-4613-A609-FD502925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751-B63C-48AC-AD6C-F57DB97D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A9B-F707-4C9A-8071-97BC317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29A-1AA5-4A07-83B5-5A487AD8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CEC-390A-40EB-8210-78E27C2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F4A-9AC4-4EA8-AE3B-DF244493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6840" y="76212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 Monitoring on Rotating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828800" y="1676520"/>
          <a:ext cx="651672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76520"/>
                    <a:ext cx="6516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11-09T07:39:38Z</cp:lastPrinted>
  <dcterms:modified xsi:type="dcterms:W3CDTF">2000-11-09T07:39:51Z</dcterms:modified>
  <cp:revision>73</cp:revision>
  <dc:subject/>
  <dc:title>Kein Folientitel</dc:title>
</cp:coreProperties>
</file>