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907588" cy="6858000"/>
  <p:notesSz cx="6681788" cy="9817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AC0C-BDB7-49CF-B628-B07BB775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470E-2055-4A9F-AF7C-B32922DD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BF5A-F4C8-4858-BA58-8587F2386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07D9-5A3D-4C3B-ACDD-450E68FE9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6469-5680-4C30-AF56-074F7851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734C-290C-44F5-80B4-D4B65C5D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863B-6D6A-47B5-BDAE-776963BC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A16F-240B-43EE-9ADB-4162BEFC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F8DF-F7B7-4B3B-98E5-D570EDC3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72CE-A872-4012-AF93-B933C231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CF2B-34CC-4C26-8DE4-748027F7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C218-C349-4E5D-997B-E7624DE8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C388-3430-476E-9202-A465A7488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8120" y="685800"/>
            <a:ext cx="67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pulsausbreitung in einer rotierenden Mas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743200" y="1690560"/>
          <a:ext cx="4952880" cy="453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1690560"/>
                    <a:ext cx="4952880" cy="453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981080" y="1752480"/>
            <a:ext cx="5943600" cy="4318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139120" y="533520"/>
            <a:ext cx="576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-Pegel als Funktion der Prüfspannu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 einer fehlerhaften Stator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5105520" cy="43736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836720" y="685800"/>
            <a:ext cx="63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äufigkeitsverteilung als Funktion der La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37440" y="762120"/>
            <a:ext cx="62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gleich der verschiedenen Auskoppelar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057400" y="1905120"/>
            <a:ext cx="585468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46200" y="762120"/>
            <a:ext cx="481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ppelwege im Wickelkopfbere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057400" y="1752480"/>
          <a:ext cx="5729400" cy="433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1752480"/>
                    <a:ext cx="5729400" cy="43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96320" y="762120"/>
            <a:ext cx="49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tquerschnitt einer Statorwick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100320" y="1676520"/>
          <a:ext cx="3828960" cy="449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00320" y="1676520"/>
                    <a:ext cx="382896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57880" y="685800"/>
            <a:ext cx="65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olaritätsverhalten der Impulshäufigkeit von 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209680" y="1905120"/>
            <a:ext cx="5504040" cy="41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0400" y="685800"/>
            <a:ext cx="832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rmische Ausdehnung der Wicklung und des Blechpa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523880" y="2133720"/>
          <a:ext cx="7086600" cy="347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2133720"/>
                    <a:ext cx="708660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5160" y="685800"/>
            <a:ext cx="86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ld-Sensoren zur TE-Auskopplung an rotierenden Masch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295280" y="2133720"/>
          <a:ext cx="7174080" cy="335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2133720"/>
                    <a:ext cx="717408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87560" y="609480"/>
            <a:ext cx="585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-Auskopplung mit induktiven Senso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 rotierenden Masch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219320" y="2209680"/>
          <a:ext cx="7508880" cy="375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209680"/>
                    <a:ext cx="750888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209680" y="1600200"/>
          <a:ext cx="5257800" cy="455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1600200"/>
                    <a:ext cx="525780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1608480" y="685800"/>
            <a:ext cx="68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hlstellenortung durch elektrische Feldsens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07280" y="685800"/>
            <a:ext cx="62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örproblematik bei der TE-Messung Vor-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38320" y="4648320"/>
            <a:ext cx="2144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 schmalbandi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undfunk- 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mmunikations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2133720"/>
            <a:ext cx="990360" cy="3045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örun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03280" y="4648320"/>
            <a:ext cx="4714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 Leistungselektronik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- Schalthandlun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Wechselrichter, ...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- Lichtbogenstörun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 Äußere Teilentladun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Korona - Gleitentladunge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47080" y="445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57800" y="3124080"/>
            <a:ext cx="11430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mpulsförm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3124080"/>
            <a:ext cx="10666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nusförm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14800" y="4038480"/>
            <a:ext cx="10666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iodi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00800" y="4038480"/>
            <a:ext cx="10666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ochasti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28195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43400" y="2438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9132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38098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934320" y="3809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3809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9132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20360" y="685800"/>
            <a:ext cx="49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rategie der TE-Signalauswer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828800" y="1828800"/>
          <a:ext cx="6276960" cy="412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1828800"/>
                    <a:ext cx="6276960" cy="41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43000" y="2209680"/>
            <a:ext cx="7467480" cy="3581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301760" y="685800"/>
            <a:ext cx="74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-Verhalten einer Statorwicklung mit Isolationsfeh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981080" y="1828800"/>
          <a:ext cx="5867640" cy="424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1828800"/>
                    <a:ext cx="5867640" cy="42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1836720" y="685800"/>
            <a:ext cx="63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äufigkeitsverteilung als Funktion der La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143000" y="2057400"/>
            <a:ext cx="7620120" cy="3581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69320" y="685800"/>
            <a:ext cx="83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-Verhalten einer Statorwicklung mit einem Isolationsfeh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2T09:29:16Z</dcterms:created>
  <dc:creator>Strehl</dc:creator>
  <dc:description/>
  <dc:language>en-US</dc:language>
  <cp:lastModifiedBy>ldic</cp:lastModifiedBy>
  <cp:lastPrinted>2000-06-21T06:20:14Z</cp:lastPrinted>
  <dcterms:modified xsi:type="dcterms:W3CDTF">2000-06-22T07:59:49Z</dcterms:modified>
  <cp:revision>71</cp:revision>
  <dc:subject/>
  <dc:title>Kein Folientitel</dc:title>
</cp:coreProperties>
</file>