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9.png" ContentType="image/png"/>
  <Override PartName="/ppt/media/image15.wmf" ContentType="image/x-wmf"/>
  <Override PartName="/ppt/media/image14.png" ContentType="image/png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710363" cy="9445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0BC-5B2A-4292-8292-5E540306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6B8-8496-4FFB-9103-76E5528B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1EE-517C-4CA6-B4D7-DB20E555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E6E-4331-4CBD-BB6B-05DE144E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D79-28F9-4C9D-AE2E-F9F394DF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053-7C31-4CA6-9470-5B92850C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2B3-95C5-48C0-BD40-B5113DDB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15B-CA82-42E0-87A5-D2192A82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1E6-9CD6-41F3-ABB8-97ED8225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63C-F253-47C6-8637-CE95966D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980-7786-4B3B-A98E-B8C89D75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438-846C-4AD1-A15D-6716EC2E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B5EA-0220-49E9-954B-0890A0585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0160" y="499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43000" y="1744560"/>
          <a:ext cx="7543800" cy="29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44560"/>
                    <a:ext cx="7543800" cy="29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884960" y="5062680"/>
            <a:ext cx="338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voltage level (2*U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time in the range of  10 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 time in the range of 1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0960" y="685800"/>
            <a:ext cx="80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e Parameters of the transient CDA-Test vol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DLOG-G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819520" y="1600200"/>
          <a:ext cx="9459720" cy="46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600200"/>
                    <a:ext cx="945972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517840" y="762120"/>
            <a:ext cx="483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shape of CDA test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51520" y="685800"/>
            <a:ext cx="70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lock diagram of the complete CDA test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19320" y="2048040"/>
          <a:ext cx="7391160" cy="394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048040"/>
                    <a:ext cx="7391160" cy="39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-CDA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945400" cy="4425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42240" y="76212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Diagram of the PD-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DLOG-G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2-CDA" descr=""/>
          <p:cNvPicPr/>
          <p:nvPr/>
        </p:nvPicPr>
        <p:blipFill>
          <a:blip r:embed="rId1"/>
          <a:stretch/>
        </p:blipFill>
        <p:spPr>
          <a:xfrm>
            <a:off x="1981080" y="1695600"/>
            <a:ext cx="6021360" cy="4483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91600" y="66204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reflectogram of a single PD-Im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DLOG-G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13640" y="72540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-Faults on XLPE-C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81080" y="1752480"/>
          <a:ext cx="609624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0962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LDLOG-G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DLOG-G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4840" y="533520"/>
            <a:ext cx="25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D-Imperf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n a 20 kV-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E-FEHL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7820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RINZI~2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7696080" cy="4092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32360" y="7254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-Measuring Circuit for the CDA-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3800" y="4584600"/>
            <a:ext cx="777852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6040" y="4583160"/>
            <a:ext cx="2513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Cabl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Coupling Capac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Measuring Imped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HV Blocking Imped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C A/D 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    Partial Discharge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(t)  Test voltage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5680" y="4583160"/>
            <a:ext cx="363744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Computer Based Analyzing System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 measurement and loc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voltage 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DLOG-G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4840" y="53352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 graph of a void in PMMA at CDA vol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oth polarities (upper) and 50 Hz test voltage (lo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57680" y="3957480"/>
            <a:ext cx="2320920" cy="209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56160" y="1798560"/>
            <a:ext cx="2317680" cy="2079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081160" y="1798560"/>
            <a:ext cx="2322720" cy="2078280"/>
          </a:xfrm>
          <a:prstGeom prst="rect">
            <a:avLst/>
          </a:prstGeom>
          <a:ln w="0">
            <a:noFill/>
          </a:ln>
        </p:spPr>
      </p:pic>
      <p:pic>
        <p:nvPicPr>
          <p:cNvPr id="106" name="LDLOG-G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447920"/>
            <a:ext cx="9448920" cy="4952880"/>
          </a:xfrm>
          <a:prstGeom prst="rect">
            <a:avLst/>
          </a:prstGeom>
          <a:solidFill>
            <a:srgbClr val="00864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600200"/>
            <a:ext cx="7924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0164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33520"/>
            <a:ext cx="94489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4840" y="53352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 pattern of a void in PMMA at CDA volt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oth polarities (upper) and 50 Hz test voltage (lo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79640" y="1798560"/>
            <a:ext cx="3797280" cy="2071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73480" y="1798560"/>
            <a:ext cx="3791160" cy="208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130560" y="3957480"/>
            <a:ext cx="3782880" cy="2087640"/>
          </a:xfrm>
          <a:prstGeom prst="rect">
            <a:avLst/>
          </a:prstGeom>
          <a:ln w="0">
            <a:noFill/>
          </a:ln>
        </p:spPr>
      </p:pic>
      <p:pic>
        <p:nvPicPr>
          <p:cNvPr id="115" name="LDLOG-G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6462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09:29:16Z</dcterms:created>
  <dc:creator>Strehl</dc:creator>
  <dc:description/>
  <dc:language>en-US</dc:language>
  <cp:lastModifiedBy>Windows98 OSR2</cp:lastModifiedBy>
  <cp:lastPrinted>1999-08-26T08:51:04Z</cp:lastPrinted>
  <dcterms:modified xsi:type="dcterms:W3CDTF">2000-03-02T04:40:04Z</dcterms:modified>
  <cp:revision>118</cp:revision>
  <dc:subject/>
  <dc:title>Kein Folientitel</dc:title>
</cp:coreProperties>
</file>